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EAF-92C2-4955-BC66-1B8F5F36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2F0-5114-451B-B0F5-EC8F622A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F81-ECBF-4F28-9D65-61EE74DF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48E-9A2A-43A8-9AD6-A71E55C8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5401-E612-4657-9A64-99B9ADE2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4E48-0CA2-406A-9FAD-B4891B47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E8DA-9F5C-4E9D-BEE8-FDDB0FD4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069D-983B-4991-AF8C-AA842A7C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2CCB-BADB-446A-8A24-E673F653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61F-ED10-410E-BAA5-741F9EFF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AE7F-6534-429E-900C-B4AC2A03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EE5-64B6-4F06-8BA8-A3C7AA45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9FEF-DEEE-431D-9F6F-D5E81906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94CD-3DEA-4BFD-B6AC-C641A8F5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A695-C7AF-4940-9256-92FC8949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5CE9-DC37-436F-8A24-9A69F735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0A0B-DA41-4498-8BD0-808112E2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244-EAEC-4150-9210-F09899C5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D71-189F-46C1-BC0A-AF2AC412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B1A-4D3F-4EB2-8A45-39B4FD2C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653A-55ED-453B-BA5A-6E713F7F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1C3-3DCE-433E-AD7B-07903E54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4A7-E0EC-4862-9B6A-81BF23BC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D37-13D3-4787-91E7-CF90726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EF09-386E-48B4-87E2-3886A77EE12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8222-7EFA-4D6C-97D6-22155959AA7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1616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71360" y="4142880"/>
            <a:ext cx="670068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D:\окр. мир 4 класс\Новая папка\26.jpg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0" y="-360"/>
            <a:ext cx="4038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упившихся цыплят отправляют в цех выращивания. Оттуда уже подросших кур переводят в цех клеточных несушек – главный цех птицефабрики. Из него в магазины поступают сотни миллионов яиц в го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птицефабрики строят возле больших городов, чтобы круглый год снабжать население яйцами и мясом. Конечно, домашних птиц разводят не только на больших птицефабриках, но и на менее крупных птицефермах и на приусадебных участ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м рыбы в прудах занимаются специальные рыбоведческие хозяйства. Основные прудовые рыбы – это сазан, карп, белый амур, толстолобик. Сазан, белый амур и толстолобик встречаются в природе и в диком виде. А вот карп – это одомашненная форма саз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D:\окр. мир 4 класс\Новая папка\1303991667_karpy_00.jpg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еком прошлом люди ходили за медом на охоту! В лесах тогда было очень много диких пчел. Они жили в дуплах деревьев. Найдя пчелиные жилища, люди их полностью разоряли, пчелиная семья погибала. Со временем люди стали забирать только часть меда, чтобы семья крылатых тружениц оставалась жи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люди стали сами выдалбливать в стволах деревьев дупла для пчел. Так зародилось пчеловодство. А потом появились и пасе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D:\окр. мир 4 класс\Новая папка\454a47e5fc-300x201.jpg"/>
          <p:cNvPicPr/>
          <p:nvPr/>
        </p:nvPicPr>
        <p:blipFill>
          <a:blip r:embed="rId2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44600" y="182520"/>
            <a:ext cx="8375400" cy="238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2708280"/>
            <a:ext cx="4114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2708280"/>
            <a:ext cx="4038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D:\окр. мир 4 класс\Новая папка\ujmzml.jpg"/>
          <p:cNvPicPr/>
          <p:nvPr/>
        </p:nvPicPr>
        <p:blipFill>
          <a:blip r:embed="rId2"/>
          <a:stretch/>
        </p:blipFill>
        <p:spPr>
          <a:xfrm>
            <a:off x="468360" y="2708280"/>
            <a:ext cx="8280360" cy="414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554120"/>
            <a:ext cx="86868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5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624880" cy="1317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560" y="1412640"/>
            <a:ext cx="41907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к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ли жесткое мясо, откладывали по 5-6 яиц в год. Людям удалось вывести породы кур с нежным, вкусным мясом; яйценоских кур, которые откладывают по 300 и даже больше яиц в год. Люди изменяли и других одомашненных  животных. Выведение новых пород домашних животных продолжается и сейча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7960" y="2204640"/>
            <a:ext cx="43434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D:\окр. мир 4 класс\Новая папка\00426155.jpg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4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699400" cy="1109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 крупного и мелкого рогатого ск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о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еводство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крае животноводство имеет свои особенности, одних животных разводят больше, других совсем не разводя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ый рогатый скот –это прежде всего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в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нашей стране разводят разные породы этих замечательных животных. Все породы делят на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о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D:\окр. мир 4 класс\Новая папка\wallpaper_9_50161.jpg"/>
          <p:cNvPicPr/>
          <p:nvPr/>
        </p:nvPicPr>
        <p:blipFill>
          <a:blip r:embed="rId2"/>
          <a:stretch/>
        </p:blipFill>
        <p:spPr>
          <a:xfrm>
            <a:off x="250920" y="1557360"/>
            <a:ext cx="43210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кий рогатый скот эт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ц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з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чень ценятся породы овец с тонкой шерстью 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корун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от слова </a:t>
            </a:r>
            <a:r>
              <a:rPr b="1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руно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 – шерсть овцы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их шерсти на фабриках делают лучшие шерстяные ткани. Стада овец называют отарами. Большие отара пасутся на степных, полупустынных и горных пастбищах. Коз разводят ради питательного молока, шерсти и очень тонкого, мягкого, шелковистого пуха. Из козьего пуха изготовляют платки и другие изде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D:\окр. мир 4 класс\Новая папка\2010-11-15_11-25-22_14740730.png"/>
          <p:cNvPicPr/>
          <p:nvPr/>
        </p:nvPicPr>
        <p:blipFill>
          <a:blip r:embed="rId2"/>
          <a:stretch/>
        </p:blipFill>
        <p:spPr>
          <a:xfrm>
            <a:off x="3143160" y="4000680"/>
            <a:ext cx="2940120" cy="214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ьи совсем не грязнули, они, наоборот, очень чистоплотны. Тот, кто видел, как в жару свинья ложится в грязь, должен знать: она делает это для того, чтобы охладить кожу и избавиться от надоедливых насекомых. Свиней нужно почаще мыть и чистить. Содержать их нужно в чистых помещ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й стране более десятка пород свиней. Самая распространенная порода –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ая бел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Сибири разводят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меровскую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D:\окр. мир 4 класс\Новая папка\поросята.jpg"/>
          <p:cNvPicPr/>
          <p:nvPr/>
        </p:nvPicPr>
        <p:blipFill>
          <a:blip r:embed="rId2"/>
          <a:stretch/>
        </p:blipFill>
        <p:spPr>
          <a:xfrm>
            <a:off x="324000" y="1557360"/>
            <a:ext cx="424944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шлом лошадь была незаменимой помощницей человека. Она помогала крестьянину в поле, когда не было тракторов. Она перевозила людей и грузы, потому что не было автомобилей. Лошадь участвовала и в военных битвах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техника во многих делах заменила лошадь. Во многих, но не во всех. Лошадь по-прежнему необходима лесникам, пастухам, пограничникам. В селе на лошадях удобно перевозить грузы на небольшие расстояния. Немало людей увлекаются конным туризмом и конным спортом. Конечно, люди не перестают восхищаться красотой лошадей. Общаясь с лошадью, человек учится понимать живое, учится добро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стых лошадей разводят на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нных завода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Лошадей большое разнообразие. Их насчитывают свыше 250 пород – от могучих тяжеловозов до миниатюрных пон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D:\окр. мир 4 класс\Новая папка\horses0630.jpg"/>
          <p:cNvPicPr/>
          <p:nvPr/>
        </p:nvPicPr>
        <p:blipFill>
          <a:blip r:embed="rId2"/>
          <a:stretch/>
        </p:blipFill>
        <p:spPr>
          <a:xfrm>
            <a:off x="4643280" y="1413000"/>
            <a:ext cx="4392720" cy="51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76720" y="1600200"/>
            <a:ext cx="3610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кролики произошли от диких. Выведено более 60 пород домашних кроликов. Кроликов разводят ради теплого, красивого меха, легкого пуха и вкусного мяс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т кроликов в клетках. Кормят кроликов разнообразной пищей. Им дают: зеленую траву, сено, корнеплоды, зерно, картофель, листья капусты, ботву моркови и свёклы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лики охотно едят многие травы: одуванчик, люцерну, подорожник, клевер, тимофеевку. Нельзя им давать траву, влажную от росы или дождя. От этого кролики могут опасно заболеть. Такую траву надо прежде просуш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D:\окр. мир 4 класс\Новая папка\60146-8973c-31184749-.jpg"/>
          <p:cNvPicPr/>
          <p:nvPr/>
        </p:nvPicPr>
        <p:blipFill>
          <a:blip r:embed="rId2"/>
          <a:stretch/>
        </p:blipFill>
        <p:spPr>
          <a:xfrm>
            <a:off x="250920" y="1557360"/>
            <a:ext cx="4681440" cy="504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560" y="1125360"/>
            <a:ext cx="41907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птицы – это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ы, гуси, утки, индейк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собенно много разводят кур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125360"/>
            <a:ext cx="43434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упной птицефабрике в инкубаторы помещают одновременно сотни тысяч яиц. Вентиляторы подают в инкубатор теплый воздух. Специальный механизм время от времени переворачивает яйца, чтобы они равномерно прогревались. Все это необходимо для правильного развития зародыш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D:\окр. мир 4 класс\Новая папка\repphoto_3407_3943.jpg"/>
          <p:cNvPicPr/>
          <p:nvPr/>
        </p:nvPicPr>
        <p:blipFill>
          <a:blip r:embed="rId2"/>
          <a:stretch/>
        </p:blipFill>
        <p:spPr>
          <a:xfrm>
            <a:off x="0" y="4076640"/>
            <a:ext cx="435600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3" name="Picture 5" descr="D:\окр. мир 4 класс\Новая папка\1267212955.jpg"/>
          <p:cNvPicPr/>
          <p:nvPr/>
        </p:nvPicPr>
        <p:blipFill>
          <a:blip r:embed="rId3"/>
          <a:stretch/>
        </p:blipFill>
        <p:spPr>
          <a:xfrm>
            <a:off x="5076720" y="4076640"/>
            <a:ext cx="406728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18:48Z</dcterms:created>
  <dc:creator>Discus</dc:creator>
  <dc:description/>
  <dc:language>en-US</dc:language>
  <cp:lastModifiedBy>Учитель</cp:lastModifiedBy>
  <dcterms:modified xsi:type="dcterms:W3CDTF">2013-05-07T09:49:21Z</dcterms:modified>
  <cp:revision>81</cp:revision>
  <dc:subject/>
  <dc:title>Животноводство в нашем крае</dc:title>
</cp:coreProperties>
</file>